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1024-2051-4A5E-AE45-653BF71FB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62D5-F6D6-4354-9C28-1B6228B41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9929-32DA-4EE0-88DB-8D25F77455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F8EB-0941-4549-A410-D70D9209B1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B32E-684C-4C45-B688-B56414558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8A12-7667-4542-BA76-53654B52F7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C95-6C13-43AB-9DEF-6508DC43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1F9-69A5-4E55-A6B4-2410FF26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6BF3-BA90-4BAE-AE73-E50BFAD9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894-6181-4228-AF5F-5E129EEE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5936-409A-42F0-98FE-6A0919BF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7D96-2B3B-4AA3-AC33-EBAFA144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6478-FF46-4F85-8943-3F986204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D6B1-75F3-4886-B01E-F6414CF3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4AF0-390C-4EC2-8551-0AACAC9C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C0AA-D423-43BE-94BC-4740D276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09ED-EA7C-4F92-8C1D-6E6AE178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CBD-140D-4EA0-8407-75BF51C1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AECD-6C4E-477A-9B49-E4B5DCD2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EAF2-BEFB-4907-8690-37E0160B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9E11-0B75-4646-A14F-AEE98EF5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8DF9-94C7-43B1-BEA8-F4E0909D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B772-EBCC-4FD0-83FA-7DFF0D52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A97-41CA-4589-A435-37AD2C6B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3DD-8650-4FF4-8F94-F3923333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8AA-F13D-4D4C-B8B1-0A236FAA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B143-E833-4540-B347-F2C181F5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8AC-F6E6-40A8-B240-F9852851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457-7FC8-411F-B85F-AF0711DF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33A-F434-4A90-808D-79D13C95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B2E6-7332-4FDE-BECE-B0D75330C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EE02-0C8D-4D5A-AFD8-52A06EECA4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ederal District Cour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DEFINE ORIGINAL JURISDIC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743200" y="3178080"/>
            <a:ext cx="39956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853920"/>
            <a:ext cx="9144000" cy="26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DEFINE APELLATE JURISDICTION.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36165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Federal Circuit court of Appeals is YOUR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763720" y="3276720"/>
            <a:ext cx="36147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o appoints Federal Judg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698920" y="3763800"/>
            <a:ext cx="37461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approves Federal Judg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236680" y="3200400"/>
            <a:ext cx="46706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11T13:47:54Z</dcterms:modified>
  <cp:revision>136</cp:revision>
  <dc:subject/>
  <dc:title>D/O: TO EXPLAIN AND IDENTIFY PROBLEMS OF ECONOMICS</dc:title>
</cp:coreProperties>
</file>